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042-CCD2-44AC-A4D3-FF051EF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5EB-0C64-44AD-A467-19B2112A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829-F72F-495C-B81C-584294E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5B4-F363-4BED-92A8-CEC16522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83F-0CDD-4364-82F2-D37252DE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D3B-37E4-44C5-B7E8-F92AFB99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2B6-931C-4CDE-AC66-C4423C4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475-2CBE-44C5-9BA9-4159F1ED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C1B-7F24-4A77-A80B-BFCB56AD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F9F-E0AF-4550-BAE5-FCE34EB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FA3-2894-491E-8A2E-651AF3B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1B4-71F3-4939-BF46-BF16F2B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663-D746-481A-9126-41E9642A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rporations such as Hasbro sell ownership interests in the company in the form of shares of st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mon stock is issued at a premium, the excess of the amount paid over par is credited to the paid-in capital in excess of par valu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72000" y="2165400"/>
          <a:ext cx="441972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65400"/>
                    <a:ext cx="44197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inancial loss that a stockholder may suffer is limited to the amount invest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or period adjustment should not be reported on retained earnings statement for the current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considered a  characteristic of a corpor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 of its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nsferable units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axable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disadvantage of the corporate form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of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legal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large amounts of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axation of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one of the following is not an ownership right of a stockholder in a corpo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assets on liqu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lare dividends on the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distributions of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ote in matters concerning th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-par common stock is issued, the journal entry will include a cred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-in Capital 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important date with respect to divid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rporation to pay a cash dividend, it mus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retaine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ction by the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ly used method of accounting for the purchase and resale of treasury stock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d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market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person always analyze the financial statements of the company before purchasing a company’s stock as an invest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72000" y="16002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uld not be a classification for Restrictions to Retained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2209680"/>
          <a:ext cx="448308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4830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7192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tems increases Retained Earn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ormal journal entry is not required for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ance of common stock at pa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6024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6, Limerick Corporation issued for cash 15,000 shares of no-par common stock at $30. On April 13, Limerick issued at par 1,000 shares of 4%, $40 par preferred stock for cash. On May 19, Limerick issued for cash 15,000 shares of 4%, $40 par preferred stock at $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457200" y="2971800"/>
          <a:ext cx="8305920" cy="3772080"/>
        </p:xfrm>
        <a:graphic>
          <a:graphicData uri="http://schemas.openxmlformats.org/drawingml/2006/table">
            <a:tbl>
              <a:tblPr/>
              <a:tblGrid>
                <a:gridCol w="3657600"/>
                <a:gridCol w="2286000"/>
                <a:gridCol w="2362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876920" y="1714680"/>
          <a:ext cx="426708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14680"/>
                    <a:ext cx="42670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28600" y="2249640"/>
          <a:ext cx="4876920" cy="2746080"/>
        </p:xfrm>
        <a:graphic>
          <a:graphicData uri="http://schemas.openxmlformats.org/drawingml/2006/table">
            <a:tbl>
              <a:tblPr/>
              <a:tblGrid>
                <a:gridCol w="2590920"/>
                <a:gridCol w="1218960"/>
                <a:gridCol w="1067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cess 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60948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nna Highlights Corporation has 150,000 shares of $100 par common stock outstanding. On June 14, Vienna Highlights declared a 4% stock dividend to be issued August 15 to stockholders of record on July 1. The market price of the stock was $110 a share on June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304920" y="2917800"/>
          <a:ext cx="8610480" cy="3406680"/>
        </p:xfrm>
        <a:graphic>
          <a:graphicData uri="http://schemas.openxmlformats.org/drawingml/2006/table">
            <a:tbl>
              <a:tblPr/>
              <a:tblGrid>
                <a:gridCol w="5410080"/>
                <a:gridCol w="160020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978440" y="1752480"/>
          <a:ext cx="4159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8440" y="1752480"/>
                    <a:ext cx="4159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228600" y="2286000"/>
          <a:ext cx="5105520" cy="3768840"/>
        </p:xfrm>
        <a:graphic>
          <a:graphicData uri="http://schemas.openxmlformats.org/drawingml/2006/table">
            <a:tbl>
              <a:tblPr/>
              <a:tblGrid>
                <a:gridCol w="3206880"/>
                <a:gridCol w="949320"/>
                <a:gridCol w="9493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838080"/>
            <a:ext cx="8305920" cy="4955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following accounts and balances, prepare the Stockholders’ Equity section of the balance sheet. Forty thousand shares of common stock are authorized, and 5,000 shares have been reac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tock, $50 par                               $1,5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in Excess of Par                        16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from Sale of Treasury Stock       4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                                          4,39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sury Stock                                                  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ing balance in stockholders’ equity is $5,979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76824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Creek Camera Inc. reported the following results for the year ending March 31, 20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457200" y="43434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9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1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338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20"/>
          <p:cNvSpPr/>
          <p:nvPr/>
        </p:nvSpPr>
        <p:spPr>
          <a:xfrm>
            <a:off x="457200" y="1832040"/>
            <a:ext cx="8305920" cy="2228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, April 1, 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,338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ned ear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fiscal year ended March 31, 2010,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generally accepted accounting principles be used in corpo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3836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3836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6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9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1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338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t of corporations have unique relationships with other companies to produce and sell licensed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difficult to purchase a share of stock in a corporation such as Hasb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large businesses are organized as corpo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incurred in organizing a corporation are debited to an expense account entitled Organizational Exp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81080"/>
          <a:ext cx="448308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48308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n forming a corporation is to sell shares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retained earnings account at the end of the fiscal year includes the proceeds from the sale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05:13Z</dcterms:created>
  <dc:creator> </dc:creator>
  <dc:description/>
  <dc:language>en-US</dc:language>
  <cp:lastModifiedBy>Leslie</cp:lastModifiedBy>
  <dcterms:modified xsi:type="dcterms:W3CDTF">2008-12-30T03:09:48Z</dcterms:modified>
  <cp:revision>42</cp:revision>
  <dc:subject/>
  <dc:title>Do all corporations such as Yankee Candle Company, Inc. start as sole proprietorships?</dc:title>
</cp:coreProperties>
</file>